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206-0DB0-4DFC-A157-7CB0D11F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1F9-3B3A-47D5-AC31-9FB4DCBD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949-87EE-4DFE-82F3-CA1D461F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CB1-D54A-4396-809D-15484F0C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00E-7E1B-4529-BD60-F6075B71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5D5-2F16-461A-93F5-6F29605B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D8E-4BF3-46B4-8A9D-01D09B2A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F6B-F20C-4A4B-8B18-328679E7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880-ABC5-4CC3-806D-214C0C4C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B32-6525-449F-8FEB-C0D94A31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F60-0983-4CF7-9179-5F2A64DF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185-70D0-438D-901A-BD40573D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7845-8E88-4AF0-A459-B5B15DDC6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rded Dragon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d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opic is bearded Dragon’s.beardies are commen pets and are very doc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Bearded li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ies originoly come from Autra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very cute,but when there mad they can be sc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05520" y="1981080"/>
            <a:ext cx="3657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rded Dragons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ded dragons eat vegies such as kale, squash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eat bugs (EW!!) such as crickets, wax worms, super worms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02160" y="1828800"/>
            <a:ext cx="2675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5:22:58Z</dcterms:created>
  <dc:creator>Yellow Springs Exempted Village School District</dc:creator>
  <dc:description/>
  <dc:language>en-US</dc:language>
  <cp:lastModifiedBy>Yellow Springs Exempted Village School District</cp:lastModifiedBy>
  <dcterms:modified xsi:type="dcterms:W3CDTF">2011-11-17T15:35:37Z</dcterms:modified>
  <cp:revision>13</cp:revision>
  <dc:subject/>
  <dc:title>Bearded Dragon’s</dc:title>
</cp:coreProperties>
</file>